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616-3970-4968-849C-6A04ADCD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1AB-5780-471E-A4FA-F7C15122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F75B-2602-430F-9221-754F729A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C522-3472-4DC5-9F5C-3321187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59E23-16F9-4120-8659-40563A54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C234C-ADB9-419D-8DD4-A9C244A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F6157-44B0-48B0-A581-C5549A9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2BC6F-4D92-4CB3-81F4-B59D7F6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F03DA-B3F0-4867-B230-AB9F5E1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4DFE7-DF50-4C23-B1D5-97C82945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BFB99-2C65-4C5E-982C-2561CB4C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CBD8F-4446-4E19-853C-680A5E10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895-41EA-4285-8F75-606F9D1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F5A0A-A500-4A9E-830B-E7B95BC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94849-5DAB-400A-A893-7C307A1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DAB4F-F3A7-4BD6-BC71-24384646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E6CAD-9DB3-4CC7-A48E-4FCA94E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BCCF0-F5D0-44C2-9E74-71E65F7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45C76-CF63-4784-A53C-4DC67C0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109F3-9D5D-46B3-BAFF-3FE66C3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8E45B-3736-4878-94AA-5558EB65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CECF7-B44D-4A69-9A8E-95BC8953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3A35B-99C6-4B43-A948-297AAC0A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0EE-7270-477F-8C6C-8DD71574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9D7D9-19C0-4EC0-99AB-E575950F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2F2ED-C3F1-46C9-A5F8-67BA845A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5D0FC-783D-47BD-84E2-96F551C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3C74-B93B-427C-AF7C-5B2307B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32069-0AFF-457B-909D-BE9F1058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95EC0-8D3F-4CBB-B40F-EC293FC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28A0-1270-46BA-AA34-46D5235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04F7-3C84-4226-B5E6-03049FE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9ECED-097A-44A2-96BE-A978AEA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930AF-AD12-430E-8049-D2D44FF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607-8A2A-4B1D-850A-4A9638D6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A6641-1C70-4A60-97EE-B6D1FF4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FBA19-D75B-431A-8A48-D965256F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F006A-7E7B-458D-8941-6A95A11F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B060E-2BAA-4FF0-B95D-A5DDC3B4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32364-F112-4F73-AFD0-54C17FE5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022E6-06EE-49A0-A66F-2B69E98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E817-9154-4BD2-A3F4-2FD2BD9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14D14-4178-45DB-80B9-E81695A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0AC2C-2696-4659-BF4A-CE36489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52A75-A2A3-4BD5-8DC4-9FD78E0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50F5-FCFA-4C30-A741-B5B8669E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8AB56-8E57-4749-91B0-3EB68FD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8075A-E713-4008-9270-1FF236A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7671-A087-48B6-89B8-141AE43D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69BD2-B7A1-43FD-A780-67C7284D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9E1A6-D942-40CE-B922-D561D605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00920-2575-49D7-8D28-DD4A6EE4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FA76A-1011-468A-9C1E-D36F7BE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911A2-1CCB-47AD-93B7-EB14733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77428-6374-4E65-8073-EC11C831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D0DEA-C653-4A17-BD3B-92C3145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6EF-AED0-4025-8676-6AAC1A5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8786F-8EC4-41B9-8B00-6415DFDC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2FE11-74C2-4F1D-927F-393F4E0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35F1F-2BD9-4643-A968-54FB098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D507B-3680-4509-969D-3B7FC88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04E9E-6811-435C-8C79-B8A5C333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093E7-BD45-4D28-AB63-33BAA32F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F24A0-499F-4591-A35B-4D6D407A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671A4-5D8F-4781-AF49-5E2EC30A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EB5B9-79A1-4874-BBD4-4E4E059F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5110E-82C6-4CB7-B123-17814C1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29C3-396F-4560-A603-E2796D1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DDB3E-8668-4BDB-96BC-24A099B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F17B3-80F1-4BBB-A9EB-7100719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3B425-FCEC-4689-838A-0C6CDE3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39165-69AC-4355-B5E7-DABF383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F9906-3B3B-408C-BA80-57F8757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B401E-214B-470D-B19F-6EC7364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4DED6-073D-4DA0-AD82-8419F17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F4DF0-85DD-4903-9DD5-4A1B8237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1340E-9705-493D-8E03-F578061B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CAD5C-4958-4017-AA2D-1AC8B5D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7D83-7750-4F3B-93A5-7FB3096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05FFD-0FCD-44B4-A08E-A603722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4697D-4699-47D4-9BFF-8072021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28A43-6B94-4C55-B9FC-2B27734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7BB81-7010-4B4C-8B57-5A34802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9ECAA-2314-4378-9728-C80C4A4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57BEE-5237-4E3A-9098-8B2492A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D9BA8-6BB5-41A9-B3C6-69EDB70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11BA2-94B4-4206-90B0-3AA8D46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C1A47-347A-4ADC-9585-3008A79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86090-AF16-44A4-B1C9-8EC2BA99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5FA0-0230-4FD3-B870-F0808D5D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1B0A6-DC94-48FF-B7FD-C139CFA1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38E81-A440-4E31-A85C-17C6BE62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5C49A-1BA7-4EA4-B2B3-A684AE4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84B9B-8614-44E2-94C8-8CAB5768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D3214-2D78-410B-9076-19251B5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4605C-3B08-49D8-8D4A-66EE350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3D819-D2BD-43B3-B895-BD93F87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239D2-ADAA-4EB1-86DF-BA4F9EF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F06A3-54B5-456D-9E47-8554AEE0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80455-3F8F-40A1-B1E9-D314ADE6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C05-07C3-4B0D-BC89-3756618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E434C-8912-41B8-B682-A16D7EF7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2A874-BA26-4084-89F4-959FCD76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BA612-9BA7-4AB5-B8F0-8D90FB5F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75531-3B7F-4602-A684-96F54294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8B149-E81F-4548-9D9F-1B7A2235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BF1FC-DEC2-4C44-84B0-E6B96A52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DDE02-7A80-4B33-909F-4AAA539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EC41D-76DE-4E07-B0CF-DC5749E8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94C5E-FCC2-4FA6-9A25-FC6735C4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C4895-608C-419B-9E48-1B6E743B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7FD-F081-4721-8F04-E017BAE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E9DB-6682-42E5-8B57-A11091C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49423-392F-4E8E-BFDC-625DB66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9254A-0E2E-4F7D-ADA0-B794FAF7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24FDB-2C50-4B8F-BACD-79A3691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65272-844D-43C7-A9BC-E3C356E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A5E6F-1964-49F0-9483-E83EF6A0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C8263-2195-4950-8B91-F16435E5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1754D-DBF0-4E1C-ADF0-2549EC2F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1D9FF-1DB2-48B5-B798-5DBA2C3A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E8B2C-7E88-4F0C-9A70-D690B46C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AF796-0C53-480C-BC49-BA8F373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4F58-9D72-4D7B-8C32-F4A44B8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F4AD7-2070-4130-83E2-73230F0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0E79B-9399-43C2-A895-CCE95FD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B250A-0452-441C-9817-1786040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8CE01-8F12-40D3-9B3E-593A586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824F5-281A-41CE-AE24-89A926EF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5CFAF-51E7-4874-AFC1-8FA08832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F79F9-4B10-449F-B4B3-1EE9ABC9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69B10-8E33-4E95-9236-C8DA4E7F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D78E7-875C-471D-9739-493C6EB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AD34A-DE1E-4AE8-8CC0-FCA065E4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CAA1-459F-473D-8BC9-65D8340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06EF1-6902-4203-8C0B-4A25644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A505C-E12D-4358-98B5-92594DF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10038-808D-4F41-95CF-15F431C6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26150-35B5-43F9-B5C0-C2F5AA5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25188-53A1-4973-9F07-DD2D629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D5CD1-B6F8-4AC3-8B68-C2BC945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40C6B-BA5A-47FC-A9E0-4AA7B22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61E11-34CE-475D-B730-9EF7DEA3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5B1B6-15B2-4D80-93E0-7083FAF9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5C48E-6B25-4D56-BA9E-75304164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A36D-FD5B-4560-8ACE-4F339466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29D1C-2E07-40CB-B24A-07163147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D8929-43EB-45CE-8998-75F1F17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2ED43-A830-45BE-94F6-372DC3F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4A722-7E16-4E02-BD8E-1E80BB7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EEC0B-A255-46B4-9FDC-4F0C2C9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BD5DC-075A-4321-9504-A299706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C99BF-EB2C-4695-81B3-A86126D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49B47-FFFC-4FC7-8994-D748263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47D99-F070-4AA8-8D9F-BB19BA94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DF881-5513-4345-BB8A-BA8275AD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9F50-C975-4E34-8D63-37301CA9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95628-CF3B-45CC-8994-61AAFF37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490DB-5C5F-47DB-BEBF-0F6C65F0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EE931-45B2-4F43-A7CF-DD9B585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D224F-D7F9-450F-8FF2-B03D4F2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96E72-3D69-4321-B959-557CFB3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48A3D-2FB8-454A-AE66-65F483B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10BF3-2A03-433A-AFF9-5A6082D5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23AA8-837C-4B22-9538-D81CFCD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B7EDE-283D-4B8D-9F33-4734AB2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8CEE7-7B3B-432C-B128-C009E20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C30B-2896-4EE7-8D72-C74D206B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35CB84-4E46-46DB-86B9-4A177B6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772AC-AA15-4D33-A036-2913EC72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4E1C2-E9E1-4251-ABDF-B957BE0E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E4E5-2997-4304-A204-DC91A35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3A6A-9E3F-4DDA-89AE-E6A5874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8E96-DE88-4D45-83A5-1BED1C9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0F3B-42F0-4570-8424-CC53C93D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FA7-932E-42EF-A19D-C475DDFC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39A4-820D-41B6-9BD5-B031FAF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6467-C2A5-4780-A3A8-32058DD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6A7E-234E-450F-A2F4-C351E45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A5AC-A909-40AA-91C0-014EFF1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B336-9290-4F6D-B52A-12B1005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D56A-2544-49F8-8892-627C083F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7588-C904-4427-891C-5076317B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8425-095F-4184-89B5-B8F430B8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66A64-1E1E-48AD-BBDD-A028B08A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9FF1-1811-49D5-914A-848EA25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742-5C33-4474-830A-5BA5AC4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78E8-642A-4794-9483-29C24B2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0072-3488-4F72-9531-25AB8AB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048E-0604-4662-88E6-5806FEB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E7C8-78CD-4596-B076-3870164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DF79-4F39-4C5D-BD9D-DC9CF0F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D410-5A70-47CC-8983-CAFDF2D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2532-0323-4743-BA4F-ECA593F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3212-3E01-49E2-A988-FCFC639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618B-2CD8-4A69-878E-4A30D213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35E6-1880-44E4-91A2-6E16D0A0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A7E-81B3-4BCD-B9C1-59C43ED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329E-D23F-4599-83A5-EFA9F0B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A39A-89BE-40CE-91C7-22EA570F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8B67-32C6-4DCA-8F0B-4ED3729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FCE7-16CD-4123-94C7-FD63419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BFDC-F3A6-44FB-AC85-3A4F6CE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0B96-5970-4A09-A9DD-5EA99ED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B1ED-9076-4B87-920C-F24A0E8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8418-0D45-4884-A0E6-D308C7F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0E96-BD3B-451A-A6B6-4C61C54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F1CB-0DC7-4E29-AF98-FCFDACA2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86B-7495-4520-9688-102B994F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9298-C80E-4D20-BB83-A5C00A1B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F942-6878-40A0-AE86-B51AF3F3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7050-B67A-4549-B9F3-A6D56A4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68F5-7228-4F26-9C9B-5FC6064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D44FB-41B3-4278-94D5-4970649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C42CD-3B0A-4017-9ADA-E2C34202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EB75-C088-4C44-9321-403DA804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063E-8FDF-4092-98F0-7CB940F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D546-3659-4D3B-9719-EA11479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9A63-1B1E-46AF-98D9-77CA7B1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D8D-6ED3-4146-B424-9586F68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A8F0-8C28-4671-85DF-9CEF27C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C975-5400-4241-B095-C246707D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239A-235F-4189-97FD-F5F34E4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A85C-3343-4F43-8E35-82EB4D8D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16C5-54AD-4605-9A0B-0654DD12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4FDF-AF74-473F-8F26-5B17C6D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1839-D95A-419A-99DF-0F44D5A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D76B-8AA3-48E6-A727-2AE38221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6532-9968-494B-B3D1-1439EEB9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69A3-621C-4E30-8C03-E1214C7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093-A376-4A7C-BB4A-B01B359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2C78-8130-4F11-8479-1135F92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8914-14A8-4FC5-B39B-ECFEB22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FA91-8573-47BF-B1FC-ADFD506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7D0A2-6C55-4C1A-A527-B04C2351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B454-43F3-404F-9F8E-2ABD5B8D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C2CE-8EFF-4BD2-B02B-F46DFFA1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B5B4B-B734-40B1-8FB9-4991FD0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0CA5-BE0F-4396-953F-2ACE1E1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6C813-F83C-4047-A1A3-DD26EF7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D2B2-0EA9-4F32-A7A6-5771DCE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3D8-5201-4E17-9990-A7B9BEB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428CF-8E3B-4963-ACE3-8F4164B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49AD-5DA7-4037-A446-AC94722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83F3-B96C-4F46-9F24-EF73043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70A35-5A6E-405C-8C5F-483293A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E546-C430-433C-9D13-F6DCBD7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0E3B-5043-474F-85BD-CB65647B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9DFE-6E58-4411-A844-563BA1F3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0F92-4EAD-402C-A6CD-A10F84D2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E709A-7C18-4DA9-B795-380C595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15F0E-0EB3-4ED9-A330-C61B455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702-CBBE-4B5F-9F82-E064C115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669-4D3A-4039-B902-C978CD418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F64C-8309-47F8-B23E-D096248DC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449-C484-4723-9583-0A7CE8CA2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7CA-E8CE-4574-A65B-11BD7E5BC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7024-1F8F-4B5B-8FC8-A990D1535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2B50-F948-4EA3-B8CA-F9616B5592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B37-1D24-4F4D-A479-C9F2E879EE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8BA-C30D-4B47-A313-3888CC016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F1E-B123-4388-B063-C15EBFD31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6E7-2BAE-4D87-A90D-A923545E9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932-1FC1-49D8-BB86-8CF2FB2E0B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616-0AF6-48DD-BE6C-93158736C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CF37-0577-4A1E-A436-7279D00B1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D8BB-D4A3-4665-9E6D-C091EF9CF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16C-B6CE-44C6-9073-7942570A3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5476-5F97-4279-9CB6-ECFA5DFCC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AEA9-F4CF-498F-8E11-9C5BDF8CB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A11-7107-4B4B-9C96-40883C7C10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3EA5-4699-4A36-AFB3-F9F47230D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74A1-5057-4DD9-A636-00AE16049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944-F49C-4F85-8AFD-B4583B43F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E82-636A-4131-922E-CF89DF3DD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368-6420-48E0-BDAE-426A37018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5CF2-5CAE-46E0-BA66-C0AE26B1D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7E6-3D9C-48D2-8168-595E035DE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E34A-152C-43D1-A364-0445E0033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BCF-D8F6-4423-B64D-BD586439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1114-A1B0-45EB-934C-5A0C771DD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DBE-D0CC-46C4-A928-F1D2E4BD07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6003-D424-47FA-A2A6-AB3F00257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AD0-0F5B-49CF-B091-EE42CFDBF4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C3D3-5976-4AA7-A5EB-C69C22B24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3FA-1434-492B-8A24-FFA7AAD53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623-82AD-4C21-A7FF-D6F099DDA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0FF-1EBD-45DA-9933-BB495A856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5A7D-A343-49B8-8E76-C6E0B78C8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1F4B-382C-475C-8DCE-BBEE7E536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A604-FA55-4D5E-86D6-9532AF211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DEB-1ADF-4003-90F6-38AEEED21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8440" y="2538360"/>
            <a:ext cx="9087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262080" y="1143000"/>
            <a:ext cx="8618400" cy="4572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1116000" y="200340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1187280" y="3673440"/>
            <a:ext cx="381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1116000" y="4508640"/>
            <a:ext cx="3816360" cy="320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1042920" y="5315040"/>
            <a:ext cx="3816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2" descr=""/>
          <p:cNvPicPr/>
          <p:nvPr/>
        </p:nvPicPr>
        <p:blipFill>
          <a:blip r:embed="rId1"/>
          <a:stretch/>
        </p:blipFill>
        <p:spPr>
          <a:xfrm>
            <a:off x="114480" y="1147680"/>
            <a:ext cx="8915400" cy="45626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75564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600120" y="2214720"/>
            <a:ext cx="7943760" cy="24285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55840" y="1116000"/>
            <a:ext cx="2305080" cy="5047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80960" y="2176560"/>
            <a:ext cx="8180280" cy="2504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444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8728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2920" y="1090440"/>
            <a:ext cx="8858160" cy="4677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784080" y="151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826920" y="409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82692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90520" y="2124000"/>
            <a:ext cx="8561520" cy="2610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69840" y="2637000"/>
            <a:ext cx="36216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71640" y="30542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971640" y="34862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971640" y="390528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028880" y="4321080"/>
            <a:ext cx="3618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438120" y="1738440"/>
            <a:ext cx="8267760" cy="3381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11600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107172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116000" y="4307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1116000" y="4738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52360" y="1781280"/>
            <a:ext cx="8637480" cy="32954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2484360" y="3659040"/>
            <a:ext cx="136692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7093080" y="3645000"/>
            <a:ext cx="13665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1366560" cy="32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7093080" y="4508640"/>
            <a:ext cx="13665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476280" y="1001880"/>
            <a:ext cx="7981920" cy="25239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2" descr=""/>
          <p:cNvPicPr/>
          <p:nvPr/>
        </p:nvPicPr>
        <p:blipFill>
          <a:blip r:embed="rId2"/>
          <a:stretch/>
        </p:blipFill>
        <p:spPr>
          <a:xfrm>
            <a:off x="973080" y="3678120"/>
            <a:ext cx="7780320" cy="2874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116000" y="146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144440" y="2290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1187280" y="45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7"/>
          <a:stretch/>
        </p:blipFill>
        <p:spPr>
          <a:xfrm>
            <a:off x="1258920" y="5805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1114560" y="1185840"/>
            <a:ext cx="6914880" cy="4486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51128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2411280" y="3241800"/>
            <a:ext cx="151128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2268360" y="4091040"/>
            <a:ext cx="86364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2411280" y="4927680"/>
            <a:ext cx="936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69840" y="927000"/>
            <a:ext cx="9004320" cy="56311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68436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68436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684360" y="501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684360" y="58341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5:3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